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C24B-402C-4D12-A2FC-8F2DF904F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3D2B-8B40-48B3-B9B2-E637525F6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3AC8-1D2F-47A6-BF60-16E40612B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8ADB-4587-4291-B087-6F981F44E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E864-A425-4B4D-8D18-14A83BD913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06BE-E677-411B-AAAE-70610500B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FDF2-DD4F-489E-9A1B-2DCC2A9B4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F564-371E-49D2-9CA5-763FB16F4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A15D-7891-4D72-8893-9D1AF9E55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BD70-E593-460B-99A2-51DDA551E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F49B-7547-4178-971D-41FDFB216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C24A-F9EC-4F7F-86ED-4DE6B139E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4C0493-1E9D-4336-B9B9-3717A6370E43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9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95640" y="32040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АНАЛИЗА КЛИНИЧКЕ ОДЛУК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КЛИНИЧКА ОДЛУК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442880" y="2131920"/>
          <a:ext cx="6258240" cy="34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2131920"/>
                    <a:ext cx="6258240" cy="34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Поступак доношења клиничке одлук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На крајевима грана (код петоуглова) треба прво ставити оцену коју пацијент придаје таквом исходу: највећа оцена је 1, а најмања 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дан би било савршено здравље, а 0 смр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ваки исход постоји одређена вероватноћа, коју треба знати из клиничког искуства или, боље, из клиничке литерат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сваки исход затим треба помножити вероватноћу са оценом пације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бијене бројке треба сабрати за све гране које излазе из једног кру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Ако постоји више нивоа грањ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поступак се понавља на сваком нив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Када доносимо одлуку на месту где се налази квадра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онда се руководимо вредностима добијеним за сваки круг који потиче из тог квадр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валидни резултати анализе клиничке одлук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укључене све важне клиничке стратегије и исхо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вероватноће добро утврђе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оцене које би пацијент дао за исходе добро утврђе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испитана осетљивост урађене анализе?(тј. да ли је испитан утицај клинички смислених варијација у вероватноћама и оценама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анализе клиничке одлуке значајни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постоји клинички значајна разлика између терапијских или дијагностичких алтернатив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ће одређени избор терапије или дијагностике и даље бити бољи, ако дође до значајних промена у вероватноћама или оценама исхо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анализе клиничке одлуке могу применити на нашем пацијенту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вероватноће важе за нашег пацијен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оцене исхода вашег пацијента и оне публиковане у анализи клиничке одлуке сличне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kett, David L. et al.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idence-Based Medicine: How to Practice and Teach EBM.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ed. New York: Churchill Livingstone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aus SE, Richardson WS, Glasziou P, Haynes RB. Evidence-based Medicine.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dition, Elsevier, 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3-01-27T14:22:59Z</dcterms:modified>
  <cp:revision>57</cp:revision>
  <dc:subject/>
  <dc:title>Slide 1</dc:title>
</cp:coreProperties>
</file>